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9B0-BA55-4C75-8A63-846F1182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D6F-4AF7-4312-A7F1-DDA0D9F0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1CA-92F0-4085-AEDC-3FFAEBB1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D8F-31A6-4036-96CB-C7248C4D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D01-F414-46E7-A406-D10E1594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FD5-32EC-4FA4-85FD-FF44618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537-345F-4F09-B5D6-B8FDB55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C1B-CD2E-4170-AA55-0E9D65B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D46-3A72-48E9-9B4E-C38BE6C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DD7-6035-4C24-B982-60424B4C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1C96-E576-45B6-8C02-53A0989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AA4-CB6F-46A5-B3E0-71436ED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1469-82D8-4B11-90D7-08CB36C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9B3E-1607-4604-90BD-312623D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6796-FA13-4043-B674-5AB679D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A08-3285-476B-907C-A3104D05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AD3C-9D72-4963-8EF1-68EDC0F0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E8F-958C-4DA6-AC03-2F0AF573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002-2918-4D58-B64B-803D729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10D-FCC7-4B26-9A8C-9190571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36E-A9B9-4B80-801A-935C6CF9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DDB-1FD6-44F1-B338-07DBE7EC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27D-1F95-4701-9602-F3B1BFD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9B0-8AB5-41A5-AB43-C0D1823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EB08-30F7-40E1-A52D-91165205C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CA76-9B9D-490C-A472-A5616D49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fferentiating the Produ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nage when all Students are Creating a Product of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 Rub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grading expectation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overall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lenty of time for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 discussion forum fo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lass time for individu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side large chucks of time fo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arrange for tec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torybo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students to pres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hould reflect on the products and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, forum, blo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3:05:24Z</dcterms:created>
  <dc:creator>Lisa Sands</dc:creator>
  <dc:description/>
  <dc:language>en-US</dc:language>
  <cp:lastModifiedBy>Lisa Sands</cp:lastModifiedBy>
  <dcterms:modified xsi:type="dcterms:W3CDTF">2008-01-30T03:23:44Z</dcterms:modified>
  <cp:revision>1</cp:revision>
  <dc:subject/>
  <dc:title>Differentiating the Product</dc:title>
</cp:coreProperties>
</file>